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2AD-8E0F-4DFD-9416-58FFB32F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AC3-5A9B-48D0-8D32-C0F2211A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5E4-A7D3-451B-A024-D2802E30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A18-2E60-4D11-BF2D-3AD5486A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30D-34AA-41C5-BAAC-59649B2D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630-8B8A-40F8-9944-F5283C53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F4A-AFD5-4C16-9DD9-910CDCB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F3F-CDBA-4887-A93B-49E4F6B6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A89-0E45-4639-ADD7-E31B53CD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270-0117-4ACC-9309-8E3C4DDD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7D6-407E-4BC9-A8CB-375F58E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3E3-E893-429C-A545-4ADC3DA3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9BD5-9F52-4730-B051-F5C58960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Automobile Insurance Co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7315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ird-part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st-party injur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st-party propert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2280" y="1447920"/>
            <a:ext cx="73915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ird-part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dily Injury 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costs (medical expenses, lost wages, pain and suffer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y Damage 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gs (other cars and proper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are types of coverage required by law in most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3352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Automobile Insurance Co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1447920"/>
            <a:ext cx="73152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st-party injur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Payments (MedP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medical and funeral expenses resulting from accidents with your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jury Protection (P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 MedPay to include lost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nsured Mot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expenses if the at fault driver does not hav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insured Mot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expenses when the at fault driver does not have enough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53352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Automobile Insurance Co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1447920"/>
            <a:ext cx="7696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st-party propert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s you for physical damage to your car, including theft, vandalism, natural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s for damage to your vehicle in case of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overages require you to pay a de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53352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Automobile Insurance Co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53352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Deduct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447920"/>
            <a:ext cx="73915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amount per accident that you pay out of pocket before insurance starts to p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deductible amounts are usually $250, $500, and $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igher the deductible amount you pay the lower your premiums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2280" y="1523880"/>
            <a:ext cx="739152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mistake when shopping for automobile insurance is looking only at the price between two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differ from policy to policy and company to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152280" y="1523880"/>
            <a:ext cx="7391520" cy="84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parts to an insuranc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1523880"/>
            <a:ext cx="7543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ces are even if you are never in an accident you will witnes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you do if you are involved in an acciden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s to take after an acc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2280" y="1523880"/>
            <a:ext cx="73915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anyone who is 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n ethical and leg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y the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further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e accident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information with the partie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 of time, location, weather, and road cond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3880"/>
            <a:ext cx="73915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hat the accident is reported promptly to the insurance agent or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icy will guide the insured on the correct steps to take to report the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any will guide the insured through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ing a Cl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2280" y="1600200"/>
            <a:ext cx="739152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likelihood you will be in an automobile acc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ore than 12 million motor vehicle accidents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ical driver will have a near automobile accident one or two tim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ical driver will be in a collision of some type on average of every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shes are the leading cause of death for ages 3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52280" y="1523880"/>
            <a:ext cx="739152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are liable for an ac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urance company covers the loss up to the policy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urer represents you if you are 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urer has the right to settle any legal action without your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remium m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er has the right to cancel your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osses exceed the policy provisions, the insured is responsible to cover the ex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ing a Cl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52280" y="1600200"/>
            <a:ext cx="7315200" cy="53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you do to reduce risk and lower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seat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Speed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own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on 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962520" y="3124080"/>
            <a:ext cx="3429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Drink an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good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2280" y="1600200"/>
            <a:ext cx="739152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a minor accident can result in thousands of dollars in da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e to your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e to other car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B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 and s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280" y="1600200"/>
            <a:ext cx="739152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in an accident how do you pay for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Acc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Un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52280" y="1600200"/>
            <a:ext cx="7391520" cy="67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utomobile Insur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to insurance policy is a contract between you and an insurance comp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pay a premium, and in exchange, the insurance company promises to pay for specific car-related financial losses during the term of the poli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I need auto in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52280" y="1447920"/>
            <a:ext cx="7391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the law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risks you can’t afford to t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’re involved in a crash that causes property damag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hurt yourself or someone els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r car is damaged when you’re not driving it?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by weather, vandalism or a hit-and-ru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r car is stol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r car breaks down and needs to be towe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52280" y="1600200"/>
            <a:ext cx="73152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you a risk to the insuranc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premiums as low as possible to the insured, a screening process is completed before an insurance contract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52280" y="1600200"/>
            <a:ext cx="73152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insurance company look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hicles, and some drivers, carry more risk tha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risks will be charged a lower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isks will be charged a higher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52280" y="1600200"/>
            <a:ext cx="731520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etermines your prem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6:59:07Z</dcterms:created>
  <dc:creator>IT Dept</dc:creator>
  <dc:description/>
  <dc:language>en-US</dc:language>
  <cp:lastModifiedBy>image</cp:lastModifiedBy>
  <dcterms:modified xsi:type="dcterms:W3CDTF">2012-04-24T14:25:31Z</dcterms:modified>
  <cp:revision>5</cp:revision>
  <dc:subject/>
  <dc:title>Slide 1</dc:title>
</cp:coreProperties>
</file>